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8D26-BA1E-4414-9136-E3AE40A2B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5D7D-1CD7-45EF-A937-CA97405D02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0B4D-35A5-43EA-A1BB-CC870F6EC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B981-401F-4B07-9F9B-313E43BB66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8800-01FC-4464-8709-4ECED4FD3D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491B-14CE-4CFD-ACD2-CAF13A85A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B2B4-1014-4D55-BB0A-8FA12EC79C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778D-16BE-4D0C-99C4-9CAE3F5378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3144-D551-438B-B23B-BC8BAA236E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370A-6249-4C14-B856-F5B8C7F2D0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FFD-B7F7-452C-A29F-6AFF1F30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060-1E0A-4844-8A5F-35E1DCD9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D8D-C8F9-4CD5-8CEF-A7A98153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BCF-48DD-4ED7-9C1E-8F99C529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81FA0-92CD-409D-907C-9C5FA16D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C39FA-90A9-460C-921A-957650A8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75A61-B9E6-4070-865B-72073717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5E071-B608-4CCC-97C2-332F4F4C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E154C-A349-4708-BE2A-096452C4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EE310-FCB6-4A1C-9C43-286B064E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4292E-E182-409C-8F40-18970AEE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1EF-027C-4BEC-A12B-E9812DDD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1F16C-DCBF-4CDF-81B8-984661B5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E0899-D973-4EF7-98E6-A69D51C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16EA1-BB29-4975-9AA8-7EC28924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6F12C-6BD5-4137-9C44-C834B356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64265-9B7E-4BB4-B51A-E7544E7F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72D-604E-4A14-96B5-567610BA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218-AC67-4AD8-89A5-C37342AE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787-4BE0-460C-B1F5-26D6B8D9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575-7E73-43F9-936F-B46790BD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B88-6B11-4194-841C-312C127B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C96-CF08-4073-AC98-D644A84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B7A-E9AC-4240-BC71-7DDFE094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FB3E-A9BC-49E8-88CA-13AEDD9F40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2167-D52C-4BBF-9099-4AD7BE6A8A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ndangered Species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nna War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na Sav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is being done to stop po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ping Poaching!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14400" y="22096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04920" y="1752480"/>
            <a:ext cx="883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aching laws are in place to minimize the illegal activity of poac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ing up Poachers to get cau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ecting all information possible if poaching is seen going 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descriptions/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hicle descri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cense plate numb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9" descr="plate"/>
          <p:cNvPicPr/>
          <p:nvPr/>
        </p:nvPicPr>
        <p:blipFill>
          <a:blip r:embed="rId1"/>
          <a:stretch/>
        </p:blipFill>
        <p:spPr>
          <a:xfrm>
            <a:off x="838080" y="3886200"/>
            <a:ext cx="2438640" cy="1222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ethics_no_poaching"/>
          <p:cNvPicPr/>
          <p:nvPr/>
        </p:nvPicPr>
        <p:blipFill>
          <a:blip r:embed="rId2"/>
          <a:stretch/>
        </p:blipFill>
        <p:spPr>
          <a:xfrm>
            <a:off x="4572000" y="2666880"/>
            <a:ext cx="342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k Cited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Leading Issues: endangered Species." 2008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ProQuest LLC. Stroudsburg. 23 Feb. 2009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tp://http://sks.sirs.com/cgi-bin/hst-sub-display?id=SPL2896-05770&amp;method=date&amp;res=Y&amp;ren=Y&amp;gov=Y&amp;lnk=N&amp;ic=N&amp;keyno=0000008804&amp;0000008804=Y&amp;title=E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gered%20species&amp;leadiss=Y&amp;auth_checked=Y#&gt;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rth American Wildlife Enforcement Officers Association - North American Wildlife Enforcement Officers Associ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26 Feb. 2009 &lt;http://www.naweoa.org/poaching.htm&gt;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tah Division of Wildlife Resour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26 Feb. 2009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tp://wildlife.utah.gov/law/poaching.php&gt;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Kids' Planet ESPECIES Animal Fact Sheets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fenders of Wildlife - Kids' Plan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26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b. 2009 &lt;http://www.kidsplanet.org/factsheets/map.html&gt;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ks Citied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(Continued)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Polar Bear - Defenders of Wildlife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fenders of Wildlife - Protection of endangered species, imperiled species, habita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01 Mar. 2009 &lt;http://www.defenders.org/wildlife_and_habitat/wildlife/polar_bear.php&gt;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Polar Bears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RDC's Save BioGems: The Place to Save Wildlife and Wildlan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01 Mar. 2009 &lt;http://www.savebiogems.org/polar/&gt;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What You Can Do to Protect Polar Bears |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e Humane Society of the United Sta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01 Mar. 2009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tp://www.hsus.org/marine_mammals/a_closer_look_at_marine_mammals/polar_bears/what_you_can_do_to_protect_polar_bears.html&gt;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are endangered speci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es a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sk of exti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activ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clim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predator-prey rati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029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are some caus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aching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at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2"/>
          <a:stretch/>
        </p:blipFill>
        <p:spPr>
          <a:xfrm>
            <a:off x="0" y="4352760"/>
            <a:ext cx="3962520" cy="2505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3333960" cy="25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are some of the most endangered species?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Panda B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panda-bear2-449x288"/>
          <p:cNvPicPr/>
          <p:nvPr/>
        </p:nvPicPr>
        <p:blipFill>
          <a:blip r:embed="rId1"/>
          <a:stretch/>
        </p:blipFill>
        <p:spPr>
          <a:xfrm>
            <a:off x="3505320" y="1447920"/>
            <a:ext cx="213336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SharkAP_450x300"/>
          <p:cNvPicPr/>
          <p:nvPr/>
        </p:nvPicPr>
        <p:blipFill>
          <a:blip r:embed="rId2"/>
          <a:stretch/>
        </p:blipFill>
        <p:spPr>
          <a:xfrm>
            <a:off x="5791320" y="39625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TOUGH_TIMES_"/>
          <p:cNvPicPr/>
          <p:nvPr/>
        </p:nvPicPr>
        <p:blipFill>
          <a:blip r:embed="rId3"/>
          <a:stretch/>
        </p:blipFill>
        <p:spPr>
          <a:xfrm>
            <a:off x="1981080" y="4648320"/>
            <a:ext cx="2819520" cy="1939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457200" y="2209680"/>
            <a:ext cx="342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r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45720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457200" y="34290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Sha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33520" y="4419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6" descr="gorrilla"/>
          <p:cNvPicPr/>
          <p:nvPr/>
        </p:nvPicPr>
        <p:blipFill>
          <a:blip r:embed="rId4"/>
          <a:stretch/>
        </p:blipFill>
        <p:spPr>
          <a:xfrm>
            <a:off x="5562720" y="1828800"/>
            <a:ext cx="2819160" cy="1878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"/>
          <p:cNvPicPr/>
          <p:nvPr/>
        </p:nvPicPr>
        <p:blipFill>
          <a:blip r:embed="rId5"/>
          <a:stretch/>
        </p:blipFill>
        <p:spPr>
          <a:xfrm>
            <a:off x="3429000" y="2743200"/>
            <a:ext cx="25146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are some of the most endangered species?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ne Tur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57200" y="2097000"/>
            <a:ext cx="6400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tened by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fisheries imp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oastal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irect take of turtles and eg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ol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global 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ed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ting coastal beaches used as nesting sanctu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s protecting sea turtles from harmful fishing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ing hotel owners keep their lights dim so they do not interrupt the turtle’s nesting seasons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7" descr="page118_1"/>
          <p:cNvPicPr/>
          <p:nvPr/>
        </p:nvPicPr>
        <p:blipFill>
          <a:blip r:embed="rId1"/>
          <a:stretch/>
        </p:blipFill>
        <p:spPr>
          <a:xfrm>
            <a:off x="6629400" y="3886200"/>
            <a:ext cx="2286000" cy="14860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5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35049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lar Bear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tened by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global  warming**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oil development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oa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food shor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ol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ed by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laws protecting polar bears from being harassed, injured or ki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reaties protecting polar bear ecosyste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organizations raising money- Polar Bear Plun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3352680" cy="222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971800" y="1752480"/>
            <a:ext cx="326700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angered Species Ac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s plant and animal species that are at risk of becoming extin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n h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n transporting and tr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recovery plans for Endangered and Threatened Spec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angerment Prev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 Do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anger Species Aware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ing green, recycling, conserving energy, and protecting the environment!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7315200" y="3124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2286000" cy="15382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228600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is poaching and why does it occur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aching- Any wildlife that is illegally being killed or taken from people of the state or provi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aching occurs for various reas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el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0" descr="See full size image"/>
          <p:cNvPicPr/>
          <p:nvPr/>
        </p:nvPicPr>
        <p:blipFill>
          <a:blip r:embed="rId1"/>
          <a:stretch/>
        </p:blipFill>
        <p:spPr>
          <a:xfrm>
            <a:off x="3809880" y="3733920"/>
            <a:ext cx="1560600" cy="198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zpfile001"/>
          <p:cNvPicPr/>
          <p:nvPr/>
        </p:nvPicPr>
        <p:blipFill>
          <a:blip r:embed="rId2"/>
          <a:stretch/>
        </p:blipFill>
        <p:spPr>
          <a:xfrm>
            <a:off x="4876920" y="48769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fur-trade"/>
          <p:cNvPicPr/>
          <p:nvPr/>
        </p:nvPicPr>
        <p:blipFill>
          <a:blip r:embed="rId3"/>
          <a:stretch/>
        </p:blipFill>
        <p:spPr>
          <a:xfrm>
            <a:off x="5638680" y="28195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12:56Z</dcterms:created>
  <dc:creator>SASD</dc:creator>
  <dc:description/>
  <dc:language>en-US</dc:language>
  <cp:lastModifiedBy>Jenna</cp:lastModifiedBy>
  <dcterms:modified xsi:type="dcterms:W3CDTF">2009-03-05T23:15:38Z</dcterms:modified>
  <cp:revision>97</cp:revision>
  <dc:subject/>
  <dc:title>Endangered Species</dc:title>
</cp:coreProperties>
</file>